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44A3-A638-4E4A-8811-6DC10926E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p Fire –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22D-38BC-4AA3-A630-3A368B72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1C9-4CE1-44CF-8CFC-38D76299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D7DB-0D57-4F28-A3E0-5A29590C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EF1-3EC8-4DD7-9AA3-25E3EE6F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112D-3F25-4A29-B1A0-121C72A8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85DE-2041-4B18-B2B9-2F1A9C69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D2E0-A6DD-4B4C-80BA-65B879F4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0E74-CF78-4317-BAFC-CC66C1F4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F708-4144-4C79-B111-6630BC76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AD45-85EF-4C5A-9D49-1CB55666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248F-13B6-4643-9C40-6E6B0ACA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859-8396-4AA9-9A7B-F7A4203C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35F0-B54B-4A86-8B4B-D8C9CEC4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C104-3EB5-41AD-8419-8A85ABBE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3048-2960-4ED6-B20F-AFBBDC5A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C55A-4E1F-480D-A90F-61A12E42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2005-5559-46C9-89A0-921171F9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BE2-7E06-48AC-8137-DEFE657B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08F-C68C-4A6F-94A2-0C93F90F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4DC-F3D8-4940-B159-0A4B30BC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5C73-48AE-4C78-B9D0-2FDC2E56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ABC-EC11-4D97-B21B-34D69D39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C07-1A82-43B7-82DD-084CB363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473-B523-495A-982A-52C37D50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873C-9204-46BC-A191-5FCDF510700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E5A7-B70E-4BA2-9F08-1E4ABC4F83B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Setting Up Camp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 </a:t>
            </a:r>
            <a:r>
              <a:rPr b="0" lang="en-US" sz="4200" spc="-1" strike="noStrike">
                <a:solidFill>
                  <a:srgbClr val="0d469b"/>
                </a:solidFill>
                <a:latin typeface="Book Antiqua"/>
              </a:rPr>
              <a:t>Session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 Fl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Our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ead a matching question and discuss how it is associated with the Big Idea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Hang the question under the Big Idea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xplain to the group your thinking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lyph Group Problem Solving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a typical May 24th weekend Joyce noticed both her arms were covered in black fly bites.  Cathy said “I think I have twice as many as you do.”  How many black fly bites might Cathy or Joyce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do you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Big Ideas for Number do you see represented in the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a marker to put the number on the bottom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stablish a supportive math talk professional learning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nect proportional reasoning –  to the Ontario Mathematics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gnize the developmental nature of multiplicative thinking (counting to skip counting to additive thinking in primary grades) as it applies to junior stu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d469b"/>
                </a:solidFill>
                <a:latin typeface="Arial"/>
              </a:rPr>
              <a:t>Create a name tag (glyph)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n index card and a sheet of paper. On the back of your index card is one of the following words: rate, ratio, percent, fraction, multiplication, or propor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following steps on your index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your card in landscape and fold it horizont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685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efore writing the name on the nametag do the following two things: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your position in the family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7030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0308"/>
                </a:solidFill>
                <a:latin typeface="Arial"/>
              </a:rPr>
              <a:t>Old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rite your name in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Young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rite your name in 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– write your name in 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199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99bd"/>
                </a:solidFill>
                <a:latin typeface="Arial"/>
              </a:rPr>
              <a:t>Only Chi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rite your name i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in your first five years of teach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 –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write in cur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-  write in manu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4470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Draw the following symbol on your name tag to indicate the month in which you were born:</a:t>
            </a:r>
            <a:br>
              <a:rPr sz="3600"/>
            </a:b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28036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– snowm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– maple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– he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–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– k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– 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– umbrel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– pump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– fl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– po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– school with a </a:t>
            </a:r>
            <a:r>
              <a:rPr b="0" lang="en-US" sz="3200" spc="-1" strike="noStrike">
                <a:solidFill>
                  <a:srgbClr val="000000"/>
                </a:solidFill>
                <a:latin typeface="Webdings"/>
                <a:ea typeface="Webdings"/>
              </a:rPr>
              <a:t>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– holly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907920"/>
            <a:ext cx="7559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Think about these before putting the border on your name tag:</a:t>
            </a:r>
            <a:br>
              <a:rPr sz="4000"/>
            </a:b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hich day of the month were you born? – Put that many dots in the border of your name 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iblings do you have? – Color a line around the edge of your border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0 – gre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 - b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2 – pur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3 – 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e70308"/>
                </a:solidFill>
                <a:latin typeface="Arial"/>
              </a:rPr>
              <a:t>4+ -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mplete your glyph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is like a ________________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a picture of your choice of animal that completes th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ublish your glyph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e your glyph on your sheet of paper and post it! Retain your index card for future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rless speaking and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assume a positive in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your burning issues to the camp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ering is op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tonnerj</cp:lastModifiedBy>
  <dcterms:modified xsi:type="dcterms:W3CDTF">2010-08-17T01:05:11Z</dcterms:modified>
  <cp:revision>152</cp:revision>
  <dc:subject/>
  <dc:title>Slide 1</dc:title>
</cp:coreProperties>
</file>